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F5F-26CF-45B4-95AE-7477F828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hoenix-Hecht surveys indicate behavior changes of corporates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 survey reports that 24% of companies have treasury management only relationships with their b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oenix-Hecht reported pricing of cash management services as one of the primary reasons companies downgrade or end a bank relationship – third in line behind availability of credit and customer service in the 2010 surv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% of middle market companies surveyed request competitive bids for new cash management services; 57% for large corpor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 both large corporate and middle market purchases, approximately 25% report awarding the bank cash management business principally because of low prices; clearly price is a statistically important ele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kewise 14% of the middle market survey population stated price increases as the primary reason for changing banks; only 10% for large corpora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9F8-36D7-45DE-8492-C0BB1B3B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ies indicate behaviors and motivations of bank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o gets the discount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Transaction Volu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Profitable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rgeted discounts on selected services based on profit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Knowledgeable 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w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the 2010 Phoenix Hecht survey of 78 list prices for cash management servic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out 45% had either no price change or a slight decre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% had an increase up to C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% had an increase above CPI but below 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ly 13% had an aggressive increase above 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8E4-B15D-46BF-9624-006881DF8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ies indicate behaviors and motivations of bank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o gets the discount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Transaction Volu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Profitable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rgeted discounts on selected services based on profit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Knowledgeable 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w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the 2010 Phoenix Hecht survey of 78 list prices for cash management servic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out 45% had either no price change or a slight decre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% had an increase up to C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% had an increase above CPI but below 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ly 13% had an aggressive increase above 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E29F-03DA-4F13-AF7F-8ED3A4E6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BDF5-246C-4FCF-89BA-4B459975A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C8D4-6464-4239-BAD6-5ACEDA3F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ies indicate behaviors and motivations of bank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o gets the discounts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Transaction Volu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Profitable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argeted discounts on selected services based on profit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st Knowledgeable 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w Relationshi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the 2010 Phoenix Hecht survey of 78 list prices for cash management servic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out 45% had either no price change or a slight decre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4% had an increase up to C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% had an increase above CPI but below 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nly 13% had an aggressive increase above 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B27-1C15-45CD-B548-FC1AD687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-bankers with over 75 years experience in the financial services indus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r Go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provide a realistic marketplace comparison of bank fees and help companies and municipalities target key areas of sav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r Proc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tilize key pricing tools from treasury marketplace, AFP and Phoenix-He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verage current client database of pricing 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termine regional pricing variances and industry segment nua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rvey the banking communi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ndard pricing versus negotiated n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ther political insight at required financial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264-D375-4AB7-B99D-7749A525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19A-ED20-4054-90C9-439054D7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6AE-82F2-4734-BF0B-435F68D3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E46-D30C-453A-8988-FCC12419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5D0-0AA7-435F-8255-6B7E29FA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107-1D2D-4009-8140-70E1E035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517-A84C-4B1C-AB80-B5B5E09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175-85B8-424A-BC81-754222A3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211-DD93-4D0D-8CBB-B5DD162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FB9-8B70-46F0-8721-7E9F22EB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921-A8B3-4DF4-B552-B063F33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F10-355D-485B-B758-15992F2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595-0D12-4B03-B669-03CF071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D24-298D-400E-9F55-02AE1BCFC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Jtmcdonald@riverstoneres.com" TargetMode="External"/><Relationship Id="rId3" Type="http://schemas.openxmlformats.org/officeDocument/2006/relationships/hyperlink" Target="mailto:Courtney.brown@blueshieldca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resentation3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447920" y="914400"/>
            <a:ext cx="7696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nagement Advi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375e"/>
                </a:solidFill>
                <a:latin typeface="Franklin Gothic Medium"/>
              </a:rPr>
              <a:t>Company  Overview and Marketplace 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8600" y="342900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f497d"/>
                </a:solidFill>
                <a:latin typeface="Palatino Linotype"/>
              </a:rPr>
              <a:t>Shine a Light on your      Treasury Servic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Leadership 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Content Placeholder 4"/>
          <p:cNvGraphicFramePr/>
          <p:nvPr/>
        </p:nvGraphicFramePr>
        <p:xfrm>
          <a:off x="1138320" y="1523880"/>
          <a:ext cx="713880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523880"/>
                    <a:ext cx="71388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Leadership 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Content Placeholder 4"/>
          <p:cNvGraphicFramePr/>
          <p:nvPr/>
        </p:nvGraphicFramePr>
        <p:xfrm>
          <a:off x="1138320" y="1604880"/>
          <a:ext cx="7477200" cy="466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604880"/>
                    <a:ext cx="74772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rket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Content Placeholder 5"/>
          <p:cNvGraphicFramePr/>
          <p:nvPr/>
        </p:nvGraphicFramePr>
        <p:xfrm>
          <a:off x="917640" y="1747800"/>
          <a:ext cx="7872480" cy="403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7640" y="1747800"/>
                    <a:ext cx="787248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rket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76160" y="1904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reasury &amp; Risk Magazine” reported in November 2010 that studies indicate these behaviors and motivations of bank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Who gets the discount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High Transaction Volu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Most Profitable 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argeted discounts on selected services based on profi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Franklin Gothic Heavy"/>
              </a:rPr>
              <a:t>Most Knowledgeable Custom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New 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reasury Market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Content Placeholder 5"/>
          <p:cNvGraphicFramePr/>
          <p:nvPr/>
        </p:nvGraphicFramePr>
        <p:xfrm>
          <a:off x="1192320" y="1501920"/>
          <a:ext cx="7291440" cy="42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1501920"/>
                    <a:ext cx="729144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13716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9144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Franklin Gothic Heavy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Franklin Gothic Heavy"/>
              </a:rPr>
              <a:t>No Bank Savings = No Expense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Franklin Gothic Medium"/>
              </a:rPr>
              <a:t>Memorandum of Underst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All company information provided to Treasury Management Advisors is held strictly confidential and will not be shared outside our fi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By engaging Treasury Management Advisors, _______________________ agrees to the following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Providing bank account analysis statements for the next 24 months (excluding the initial statements for audit review) for all financial institutions utilized for each entity owned or operated by _________________________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We reserve the right to request sweep statements/rates and or credit costs to help track fee savings or additional interest created as a direct result of our advisory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Our fee structure is defined as follows: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No up-front or hidden fe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The </a:t>
            </a:r>
            <a:r>
              <a:rPr b="1" lang="en-US" sz="800" spc="-1" strike="noStrike">
                <a:solidFill>
                  <a:srgbClr val="000000"/>
                </a:solidFill>
                <a:latin typeface="Franklin Gothic Medium"/>
              </a:rPr>
              <a:t>contingency fee is 50% </a:t>
            </a: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of any treasury management fee savings/interest savings/additional interest created as a direct result of our advisory services or as a by-product of engaging our services.  Contingency fee will be a negotiated higher rate for custom reporting and/or account level repor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The contingency fee is billed monthly and calculated as follows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Current monthly average (proforma) of bank pricing less the newly negotiated bank pricing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Additional interest created/earned or interest expense saved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Earnings Credit Rate (ECR) adjustments that result in lower fees/bank pricing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Franklin Gothic Medium"/>
              </a:rPr>
              <a:t>The resulting savings/additional interest created (listed above) is then multiplied by 50%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Franklin Gothic Medium"/>
              </a:rPr>
              <a:t>(based on negotiated percentage) and invoiced each month for the duration of the contract period.</a:t>
            </a: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Our contract billing period should coincide with any contract period negotiated with bank(s) as result of engaging Treasury Management Advisors.  Treasury Management Advisors invoice payment terms are </a:t>
            </a:r>
            <a:r>
              <a:rPr b="1" lang="en-US" sz="800" spc="-1" strike="noStrike">
                <a:solidFill>
                  <a:srgbClr val="000000"/>
                </a:solidFill>
                <a:latin typeface="Franklin Gothic Medium"/>
              </a:rPr>
              <a:t>Net 15 Days</a:t>
            </a: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 from receipt of invoice.  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Franklin Gothic Med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Treasury Management Advisors will audit all monthly account analysis statements provided by ___________________________ and help track the revised contract pricing and/or fee varianc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914400" y="685800"/>
            <a:ext cx="8077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7375e"/>
                </a:solidFill>
                <a:latin typeface="Franklin Gothic Medium"/>
              </a:rPr>
              <a:t>Sample Reports - TMA Bank Impact YT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0D9-583E-4B62-9CF0-673CFBDF8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ontent Placeholder 8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8077320" cy="421632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12"/>
          <p:cNvSpPr/>
          <p:nvPr/>
        </p:nvSpPr>
        <p:spPr>
          <a:xfrm>
            <a:off x="2666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EEC5-AE8E-45D7-A5EE-A6DD123C6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D63-7875-4B7A-9787-B50E564EAE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6"/>
          <p:cNvSpPr/>
          <p:nvPr/>
        </p:nvSpPr>
        <p:spPr>
          <a:xfrm>
            <a:off x="2590920" y="63244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16F-1332-4855-A438-85CA7AD14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600200"/>
          <a:ext cx="8229600" cy="4191120"/>
        </p:xfrm>
        <a:graphic>
          <a:graphicData uri="http://schemas.openxmlformats.org/drawingml/2006/table">
            <a:tbl>
              <a:tblPr/>
              <a:tblGrid>
                <a:gridCol w="990360"/>
                <a:gridCol w="1067040"/>
                <a:gridCol w="914400"/>
                <a:gridCol w="1295280"/>
                <a:gridCol w="1371600"/>
                <a:gridCol w="1219320"/>
                <a:gridCol w="1371600"/>
              </a:tblGrid>
              <a:tr h="598320">
                <a:tc gridSpan="7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ly Re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ontract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YTD $ Sav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forma $ Savings (Ann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YTD Net $ Savings (Less TM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forma Net $ Savings (Ann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5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JPM C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 of 12 ECR / 9 of 12 Pri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25,457.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30,549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17,756.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21,308.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0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JPM C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 of 12 ECR / 9 of 12 Pri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226,839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272,207.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152,320.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182,784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4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7,567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7,567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5,364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   5,364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15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Wacho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6 of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18,688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37,377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12,643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25,287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is #6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Wells Far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7 of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5,647.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9,681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3,584.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$                     6,145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12"/>
          <p:cNvSpPr/>
          <p:nvPr/>
        </p:nvSpPr>
        <p:spPr>
          <a:xfrm>
            <a:off x="914400" y="679320"/>
            <a:ext cx="8077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7375e"/>
                </a:solidFill>
                <a:latin typeface="Franklin Gothic Medium"/>
              </a:rPr>
              <a:t>Sample Reports - TMA Bank Impact YT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80DE-745D-4A35-BA67-062A1B376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16"/>
          <p:cNvSpPr/>
          <p:nvPr/>
        </p:nvSpPr>
        <p:spPr>
          <a:xfrm>
            <a:off x="2590920" y="63244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EFB-AA24-4855-A9EF-31F360E36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99072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Sample Reports - Bank Monthly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8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3716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523880"/>
            <a:ext cx="662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ayne Nunes, Managing Director – Partner, EV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nunes@tmaholdings.co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ffice 972-532-0151 x 7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ell 713-870-70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nnette Cox, Managing Director – Part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cox@tmaholding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ffice 972-532-0151 x 7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ell 214-797-07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John McKemie, SVP – S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jmckemie@treasuryfee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ffice 972-532-0151 x 7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ell 713-446-95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Presentation Cont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95280" y="1600200"/>
            <a:ext cx="7543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’s Toolbox Highlights – p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’s Process – What We Do – pages 4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lients and References – Who We’ve Helped – pages 6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’s Team – Who We Are and Leadership Bios – pages 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reasury Marketplace – pages 12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ervice Agreement &amp; Sample Reports – pages 15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Contact Information – page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Toolbox – Highligh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12952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o provide a “realistic” marketplace comparison of treasury fees, request targeted areas of savings &amp; help our clients navigate bank 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Value Pro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Treasury savings, solutions and service with TMA broadens our client’s in-house treasury expertise and removes the burden of monthly account analysis reconcilement and error resolution with each contracted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udit treasury &amp; merchant service fees via proprietary &amp; market pric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Review each bank’s respective ECR and interest earned to gauge opport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Survey the banking community for market intelligence unique to each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Assist with price negotiation &amp; identify back-office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onitor each “master” account analysis statement for accuracy &amp;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TMA’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Consortium of ex-bankers with over 100+ years exper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Process – What 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1896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Solutions and savings without the pain of marketplac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obust Audits of all Treasury Management Fe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100% of the review/audit process is completed by TMA -- limited client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Outsourced solution handled by seasoned bankers who know how to navigate the banking back-office, treasury marketplace and bank internal pricing mod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MA clients have yielded an average of 25+% reduction in bank f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Pay after performance model, TMA operates strictly on conting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onthly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MA monitors/reconciles the account analysis fees each mon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Ensure negotiated pricing revisions stay in place for the contracted te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Notify our client of any “significant” line item price variances, target bank errors, pricing deviations, ECR or interest earned rate challe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Bank correspondence/follow-up for corrections is completed by TMA  and then forwarded to our respective cli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646280"/>
            <a:ext cx="7696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TMA Identifies Efficiency Opportunities for the “Back-Office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Identify which account analysis line items are driving f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earch each price point for uniformity and consistency in pric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Determine which services are truly necessary for the company to manage their daily working capita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ind the areas of “low-lying fruit” for clients to se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Quick hits which make an immediate impac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Process changes are purely additive to any pricing revisions and recommended to be a “Phase Two” of the current project/eng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Typically  clients have yielded an additional 15% to 20% in annual savings if there is an ability to consider efficiency cha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29528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Process – What 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114300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Clients – Who We’ve Hel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57200" y="635652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2640" y="1385640"/>
            <a:ext cx="76201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Companies of various industries and sizes have experienced benefits of reduced pricing, improved rates and back-office efficiencies by partnering with Treasury Management Advisor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ortune 500 global investment management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commercial property management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residential property owners and management compan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golf course and resort club owner/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eading global reservoir management services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anch and farming operations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International workforce solutions/staffing service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ulti-market newspaper publisher and online journal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ealthcare providers – medical and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Large regional public accounting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National professional services and executive recruitment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Refer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457200" y="635652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8960" y="1600200"/>
            <a:ext cx="37335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Riverstone Residential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Julie McDonald, Treasury Mana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1201 Elm Street, Suite 16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Dallas, Texas  752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Direct Phone 214-965-60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Franklin Gothic Medium"/>
                <a:hlinkClick r:id="rId2"/>
              </a:rPr>
              <a:t>Jtmcdonald@riverstonere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Courtney Brown, Sr. Treasury Mg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50 Beale Stre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San Francisco, CA 941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Direct Phone 415-229-589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Franklin Gothic Medium"/>
                <a:hlinkClick r:id="rId3"/>
              </a:rPr>
              <a:t>courtney.brown@blueshieldca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0" y="1600200"/>
            <a:ext cx="419112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impson Housing  L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Yvonne Camacho, EVP 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8110 East Union Avenue, Suite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enver, Colorado  802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irect Phone 303-283-41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yvonne.camacho@simpsonhous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Snelling Staff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elinda Starnes, Cash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4055 Valley View Lane, Suite 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allas, Texas  752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Direct Phone 972-776-13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melinda.starnes@snelling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’s Team – Who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Former Bankers, Experienced Consultants and Strategic Advisors 100+ years experie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dept in treasury sales &amp; treasury sales leadership, bank business development, several tenured in credit and relationship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TMA maintains extensive knowledge of marketplace treasury pricing, “unique and institutionalized” fees, treasury costing &amp; specific bank philosophy/culture unique to each primary banking institu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anage “daily” negotiations with bank partners and external treasury vend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lobal &amp; regional banking expert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ands-on experience with technology implementations and treasury system convers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n average, TMA is engaged with clients that have a high “six” and “seven figure” treasury spend per ann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presentation3-1-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11430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Franklin Gothic Medium"/>
              </a:rPr>
              <a:t>TMA Leadership 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572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nfidential &amp; Proprietary Information of Treasury Management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Content Placeholder 4"/>
          <p:cNvGraphicFramePr/>
          <p:nvPr/>
        </p:nvGraphicFramePr>
        <p:xfrm>
          <a:off x="1143000" y="1604880"/>
          <a:ext cx="7439040" cy="456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4880"/>
                    <a:ext cx="74390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4:48:45Z</dcterms:created>
  <dc:creator>Annette</dc:creator>
  <dc:description/>
  <dc:language>en-US</dc:language>
  <cp:lastModifiedBy>TMA</cp:lastModifiedBy>
  <dcterms:modified xsi:type="dcterms:W3CDTF">2012-08-08T17:59:24Z</dcterms:modified>
  <cp:revision>417</cp:revision>
  <dc:subject/>
  <dc:title>Slide 1</dc:title>
</cp:coreProperties>
</file>